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820-CD21-4BAE-B8B2-1619C9F2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2E4-8DE6-4406-8A2E-10487996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BB8-9A71-41B3-969E-39B31A7A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C0B-7530-4F4D-830D-78537E37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9CE-8D2A-42A9-B1AE-D06251F3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DDC-CE2D-4D04-9188-653D8DA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5B3-684F-46CD-A642-4C5F4BE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5B6-66FD-4C7F-82FB-AE1D7EBE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521-5B30-4337-BD56-4F484933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B96-54B1-4A6C-A8F6-35107D7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011-34A7-401F-99FC-C126428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637-63AC-4083-B102-D77C632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4C03-E96E-4E7A-8926-4DD0E04C0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iztia.cl/img/higien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ginasdesegovia.com/imagenes/junio2007/higiene%20y%20salud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.ve/imgres?imgurl=http://www.paritarios.cl/images/02_higiene.jpg&amp;imgrefurl=http://www.paritarios.cl/servicios_vivir_mejor.htm&amp;h=263&amp;w=562&amp;sz=50&amp;hl=es&amp;start=3&amp;tbnid=TI6IE8vDqUqnFM:&amp;tbnh=62&amp;tbnw=133&amp;prev=/images%3Fq%3DHIGIENE%26gbv%3D2%26hl%3Des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.ve/imgres?imgurl=http://www.plasalix.com/zencart/images/limpeza/balde.jpg&amp;imgrefurl=http://www.plasalix.com/zencart/index.php%3Fmain_page%3Dproduct_info%26products_id%3D8%26language%3Des&amp;h=400&amp;w=400&amp;sz=8&amp;hl=es&amp;start=164&amp;tbnid=EIQGl6v7sgAO6M:&amp;tbnh=124&amp;tbnw=124&amp;prev=/images%3Fq%3DHIGIENE%26start%3D160%26gbv%3D2%26ndsp%3D20%26hl%3Des%26sa%3D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.ve/imgres?imgurl=http://bp0.blogger.com/_dQc_VK6hZko/R1glakHgLeI/AAAAAAAAACs/4JX6BjNcxT0/s400/hunk161024x768.jpg&amp;imgrefurl=http://automator79-robotron.blogspot.com/&amp;h=300&amp;w=400&amp;sz=17&amp;hl=es&amp;start=244&amp;tbnid=EtjHMaOE2AavaM:&amp;tbnh=93&amp;tbnw=124&amp;prev=/images%3Fq%3DHIGIENE%26start%3D240%26gbv%3D2%26ndsp%3D20%26hl%3Des%26sa%3D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.ve/imgres?imgurl=http://www.telefonica.net/web2/akiv/militargaleno.jpg&amp;imgrefurl=http://historiasconhistoria.blogia.com/2007/101801-medicina-militar-romana.php&amp;h=448&amp;w=356&amp;sz=50&amp;hl=es&amp;start=36&amp;tbnid=tBv6OqAEZJeLsM:&amp;tbnh=127&amp;tbnw=101&amp;prev=/images%3Fq%3DHIGIENE%2BMILITAR%26start%3D20%26gbv%3D2%26ndsp%3D20%26hl%3Des%26sa%3DN" TargetMode="External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centros2.pntic.mec.es/cp.andres.manjon1/infor/i2.jpg&amp;imgrefurl=http://centros2.pntic.mec.es/cp.andres.manjon1/infor/paginita.htm&amp;h=280&amp;w=520&amp;sz=187&amp;hl=es&amp;start=512&amp;tbnid=OR0tkkb9IrhxyM:&amp;tbnh=71&amp;tbnw=131&amp;prev=/images%3Fq%3DHIGIENE%26start%3D500%26gbv%3D2%26ndsp%3D20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www.plasalix.com/zencart/images/limpeza/balde.jpg&amp;imgrefurl=http://www.plasalix.com/zencart/index.php%3Fmain_page%3Dproduct_info%26products_id%3D8%26language%3Des&amp;h=400&amp;w=400&amp;sz=8&amp;hl=es&amp;start=164&amp;tbnid=EIQGl6v7sgAO6M:&amp;tbnh=124&amp;tbnw=124&amp;prev=/images%3Fq%3DHIGIENE%26start%3D160%26gbv%3D2%26ndsp%3D20%26hl%3Des%26sa%3DN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.ve/imgres?imgurl=http://media-cdn.tripadvisor.com/media/photo-s/01/07/7d/c3/la-higiene-del-hotel.jpg&amp;imgrefurl=http://www.tripadvisor.es/LocationPhotos-g316062-d316888-w2-Hesperia_Playa_El_Agua-Porlamar_Margarita_Island_Coastal_Islands.html&amp;h=412&amp;w=550&amp;sz=29&amp;hl=es&amp;start=62&amp;tbnid=pFsh_VEtfvmrcM:&amp;tbnh=100&amp;tbnw=133&amp;prev=/images%3Fq%3DHIGIENE%26start%3D60%26gbv%3D2%26ndsp%3D20%26hl%3Des%26sa%3D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www.elpais.com/recorte/20070827elpmad_2/LCO340/Ies/Lamentables_condiciones_higiene_comisaria_Alcala_Henares.jpg&amp;imgrefurl=http://www.elpais.com/articulo/madrid/Cucarachas/comisaria/elpepuespmad/20070827elpmad_1/Tes/&amp;h=340&amp;w=340&amp;sz=20&amp;hl=es&amp;start=38&amp;tbnid=SDAdgq0oiVxwxM:&amp;tbnh=119&amp;tbnw=119&amp;prev=/images%3Fq%3DHIGIENE%26start%3D20%26gbv%3D2%26ndsp%3D20%26hl%3Des%26sa%3D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.ve/imgres?imgurl=http://weblogs.madrimasd.org/images/weblogs_madrimasd_org/salud_publica/832/o_Scan10006.JPG&amp;imgrefurl=http://weblogs.madrimasd.org/salud_publica/archive/2007/11/18/79003.aspx&amp;h=4672&amp;w=6848&amp;sz=2756&amp;hl=es&amp;start=371&amp;tbnid=6ZtRw0FFEPvo5M:&amp;tbnh=102&amp;tbnw=150&amp;prev=/images%3Fq%3DHIGIENE%26start%3D360%26gbv%3D2%26ndsp%3D20%26hl%3Des%26sa%3DN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co.ve/imgres?imgurl=http://www.sepbcs.gob.mx/comunicacion/comunicados/imagenes/02_May-07/seguridad%2520e%2520higiene_02.JPG&amp;imgrefurl=http://www.sepbcs.gob.mx/comunicacion/comunicados/02_May-07_Bol02.htm&amp;h=235&amp;w=314&amp;sz=55&amp;hl=es&amp;start=413&amp;tbnid=HbVDNw2E8YejgM:&amp;tbnh=88&amp;tbnw=117&amp;prev=/images%3Fq%3DHIGIENE%26start%3D400%26gbv%3D2%26ndsp%3D20%26hl%3Des%26sa%3DN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www.amazoniamagica.com/images/HMA.jpg&amp;imgrefurl=http://www.amazoniamagica.com/index.php%3FcPath%3D32_49%26osCsid%3D30bf7102adf79ca05fda0d90cf276b4c&amp;h=414&amp;w=587&amp;sz=35&amp;hl=es&amp;start=252&amp;tbnid=VK4q4WWC-W7joM:&amp;tbnh=95&amp;tbnw=135&amp;prev=/images%3Fq%3DHIGIENE%26start%3D240%26gbv%3D2%26ndsp%3D20%26hl%3Des%26sa%3DN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ve/imgres?imgurl=http://www.arsenalfotografico.com/banco_de_imagenes/d/10644-2/fh1381.jpg&amp;imgrefurl=http://www.arsenalfotografico.com/banco_de_imagenes/objetos/fh1381.jpg.html&amp;h=450&amp;w=299&amp;sz=72&amp;hl=es&amp;start=448&amp;tbnid=jL5cEcKxX7JMrM:&amp;tbnh=127&amp;tbnw=84&amp;prev=/images%3Fq%3DHIGIENE%26start%3D440%26gbv%3D2%26ndsp%3D20%26hl%3Des%26sa%3DN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ve/imgres?imgurl=http://farm2.static.flickr.com/1313/1345988462_54964f15d9.jpg&amp;imgrefurl=http://www.elinformaldefran.com/2007/09/ante-todo-higiene-en-la-feria.html&amp;h=375&amp;w=500&amp;sz=163&amp;hl=es&amp;start=178&amp;tbnid=c-q1hrwD98KMrM:&amp;tbnh=98&amp;tbnw=130&amp;prev=/images%3Fq%3DHIGIENE%26start%3D160%26gbv%3D2%26ndsp%3D20%26hl%3Des%26sa%3DN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República Bolivariana de Venezuel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Ministerio del Poder Popular para la Defens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Universidad Nacional Experimental Politécnic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de la Fuerza Armad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U. N. E. F. 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Licenciatura en Economía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5013360"/>
            <a:ext cx="8280360" cy="1808280"/>
            <a:chOff x="468360" y="5013360"/>
            <a:chExt cx="8280360" cy="1808280"/>
          </a:xfrm>
        </p:grpSpPr>
        <p:sp>
          <p:nvSpPr>
            <p:cNvPr id="43" name=""/>
            <p:cNvSpPr/>
            <p:nvPr/>
          </p:nvSpPr>
          <p:spPr>
            <a:xfrm>
              <a:off x="468360" y="5013360"/>
              <a:ext cx="5398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Cátedra: Sanidad Militar y Primeros Auxil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Prof. (a): ST2. Angie Sánche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48360" y="5013360"/>
              <a:ext cx="360036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Bracamonte Hé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Contreras Gabri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Marrero Mari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Ordozgoite Vivi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1920"/>
            <a:ext cx="939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83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Handwriting"/>
              </a:rPr>
              <a:t>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2438280" cy="117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404640"/>
            <a:ext cx="5329080" cy="2232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637000"/>
            <a:ext cx="1440000" cy="180000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357336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Siempre se debe buscar el desagües para evitar la conta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373720"/>
            <a:ext cx="2951280" cy="131364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Los desagüe evitan que están se acumulen y produzcan enfermed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1125360"/>
            <a:ext cx="2519280" cy="194328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339840 h 1943280"/>
              <a:gd name="textAreaBottom" fmla="*/ 14090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760094"/>
                <a:lnTo>
                  <a:pt x="11419" y="20457"/>
                </a:lnTo>
                <a:lnTo>
                  <a:pt x="0" y="17280"/>
                </a:lnTo>
                <a:lnTo>
                  <a:pt x="11419" y="11817"/>
                </a:lnTo>
                <a:lnTo>
                  <a:pt x="11419" y="13977"/>
                </a:lnTo>
                <a:arcTo wR="21600" hR="7560" stAng="1760094" swAng="-140266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852640"/>
            <a:ext cx="1873440" cy="25628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iller"/>
              </a:rPr>
              <a:t>Las aguas de arroyo dependiendo su origen se clasifican desde el aseo personal, hasta el lavado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1692360" y="1008000"/>
            <a:ext cx="6048360" cy="4621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Bookman Old Style"/>
              </a:rPr>
              <a:t>HIGIENE SOBRE </a:t>
            </a:r>
            <a:br>
              <a:rPr sz="4400"/>
            </a:br>
            <a:r>
              <a:rPr b="0" lang="es-MX" sz="4400" spc="-1" strike="noStrike">
                <a:solidFill>
                  <a:srgbClr val="cc0099"/>
                </a:solidFill>
                <a:latin typeface="Bookman Old Style"/>
              </a:rPr>
              <a:t>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26920" y="669960"/>
            <a:ext cx="7848720" cy="5740200"/>
            <a:chOff x="826920" y="669960"/>
            <a:chExt cx="7848720" cy="5740200"/>
          </a:xfrm>
        </p:grpSpPr>
        <p:pic>
          <p:nvPicPr>
            <p:cNvPr id="48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26920" y="3573360"/>
              <a:ext cx="1640160" cy="25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076720" y="669960"/>
              <a:ext cx="359892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918480" y="4653000"/>
              <a:ext cx="175716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>
              <a:hlinkClick r:id="rId8"/>
            </p:cNvPr>
            <p:cNvPicPr/>
            <p:nvPr/>
          </p:nvPicPr>
          <p:blipFill>
            <a:blip r:embed="rId9">
              <a:lum bright="30000"/>
            </a:blip>
            <a:stretch/>
          </p:blipFill>
          <p:spPr>
            <a:xfrm>
              <a:off x="870120" y="743040"/>
              <a:ext cx="1757160" cy="13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 rot="736200">
            <a:off x="6376680" y="3687840"/>
            <a:ext cx="2371680" cy="29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rot="20563200">
            <a:off x="703080" y="395280"/>
            <a:ext cx="2663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700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ACONDICIONAMIENTO DE LA TROPA.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60720" y="2959200"/>
            <a:ext cx="43196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916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EJECUCION DE LA MARCHA.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95640" y="1992240"/>
            <a:ext cx="5832360" cy="3884400"/>
            <a:chOff x="2195640" y="1992240"/>
            <a:chExt cx="5832360" cy="3884400"/>
          </a:xfrm>
        </p:grpSpPr>
        <p:grpSp>
          <p:nvGrpSpPr>
            <p:cNvPr id="60" name=""/>
            <p:cNvGrpSpPr/>
            <p:nvPr/>
          </p:nvGrpSpPr>
          <p:grpSpPr>
            <a:xfrm>
              <a:off x="2195640" y="3068640"/>
              <a:ext cx="5616000" cy="2808000"/>
              <a:chOff x="2195640" y="3068640"/>
              <a:chExt cx="5616000" cy="2808000"/>
            </a:xfrm>
          </p:grpSpPr>
          <p:pic>
            <p:nvPicPr>
              <p:cNvPr id="61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5794560" y="4092120"/>
                <a:ext cx="2017080" cy="17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068640"/>
                <a:ext cx="2441880" cy="1623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5081760" y="1992240"/>
              <a:ext cx="2946240" cy="22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5840" y="1844640"/>
            <a:ext cx="7058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PERSONAL DE AVANZADA DE ALOJAMIENTO.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SELECCION Y SANEAMIENTO DE LOS EMPLAZAMIENTOS DE CAMPAMENTOS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87280" y="1420920"/>
            <a:ext cx="7848720" cy="4611600"/>
            <a:chOff x="1187280" y="1420920"/>
            <a:chExt cx="7848720" cy="4611600"/>
          </a:xfrm>
        </p:grpSpPr>
        <p:pic>
          <p:nvPicPr>
            <p:cNvPr id="6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187280" y="3295800"/>
              <a:ext cx="273708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148360" y="3105000"/>
              <a:ext cx="3456000" cy="23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946920" y="1420920"/>
              <a:ext cx="2089080" cy="156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24000" y="765000"/>
            <a:ext cx="8567640" cy="5896080"/>
            <a:chOff x="324000" y="765000"/>
            <a:chExt cx="8567640" cy="5896080"/>
          </a:xfrm>
        </p:grpSpPr>
        <p:pic>
          <p:nvPicPr>
            <p:cNvPr id="71" name="" descr="">
              <a:hlinkClick r:id="rId2"/>
            </p:cNvPr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826920" y="765000"/>
              <a:ext cx="7705800" cy="542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24000" y="4149720"/>
              <a:ext cx="1657080" cy="25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227640" y="4653000"/>
              <a:ext cx="2664000" cy="20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Bookman Old Style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ACTERISTICAS SANITARIAS IDEALES DE LOS EMPLAZAMIENTOS DE CAMPAMEN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19640" y="549360"/>
            <a:ext cx="3024000" cy="45900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Handwriting"/>
              </a:rPr>
              <a:t>Eliminación  de Excrementos  de Origen  Hu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916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 es unos de los puntos principales en un campamento, esto con el fin de  no contaminar los suministros de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050560" y="2637000"/>
            <a:ext cx="24498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89360"/>
            <a:ext cx="2160360" cy="25333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Se debe observar si se tiene los instrumentos de limpieza, de la persona o de personal a c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2637000"/>
            <a:ext cx="180000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716280"/>
            <a:ext cx="2376720" cy="192348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En estos casos se usan letrinas de zanja comunales, pero en la mayoría usan  las letrinas de po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2600280" cy="29052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08720" y="3141720"/>
            <a:ext cx="2428920" cy="27144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148360" y="1268280"/>
            <a:ext cx="216036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Chiller"/>
              </a:rPr>
              <a:t>Tipos de letrinas en los cam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708000" y="170028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156360" y="220500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4465800" cy="136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6360" y="3645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Tener basura hace que aparezcan enferm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3429000"/>
            <a:ext cx="2592720" cy="1655640"/>
          </a:xfrm>
          <a:prstGeom prst="cloudCallout">
            <a:avLst>
              <a:gd name="adj1" fmla="val -87476"/>
              <a:gd name="adj2" fmla="val 3168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427640" y="2421000"/>
            <a:ext cx="129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41300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 esto se debe crear un sistema de recolección de bas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1916280"/>
            <a:ext cx="720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852640"/>
            <a:ext cx="1584360" cy="641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untualizar una zona para los desperd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148360" y="134136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836640"/>
            <a:ext cx="1800000" cy="641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nde no halla acceso de personas, solo personal capaci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1:36:34Z</dcterms:created>
  <dc:creator>WinuE</dc:creator>
  <dc:description/>
  <dc:language>en-US</dc:language>
  <cp:lastModifiedBy>Gabriela Contreras</cp:lastModifiedBy>
  <dcterms:modified xsi:type="dcterms:W3CDTF">2008-03-06T01:37:12Z</dcterms:modified>
  <cp:revision>4</cp:revision>
  <dc:subject/>
  <dc:title>Diapositiva 1</dc:title>
</cp:coreProperties>
</file>